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18CE-6FAE-4F44-BCC4-7332E18C2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C8D5-AE7D-4BE5-BFA9-5CD2E69BD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4330-7C6A-4687-8E68-248E1129FF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b7ecff"/>
                </a:solidFill>
                <a:latin typeface="Calibri"/>
              </a:rPr>
              <a:t>Hill Street Blues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: Gritty, tough police dr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continued with </a:t>
            </a:r>
            <a:r>
              <a:rPr b="0" i="1" lang="en-US" sz="1200" spc="-1" strike="noStrike">
                <a:solidFill>
                  <a:srgbClr val="b7ecff"/>
                </a:solidFill>
                <a:latin typeface="Calibri"/>
              </a:rPr>
              <a:t>NYPD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0A67-1A88-4BEA-B15E-C788BA68854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pranos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beat many broadcast shows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C2AA-ADD0-4BD9-B76E-488FF1053DC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9FBB-3C9B-4739-88B9-2F096D96B4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Soap operas: Dying out as audience shr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Quiz/game sh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Highly pop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b7ecff"/>
                </a:solidFill>
                <a:latin typeface="Calibri"/>
              </a:rPr>
              <a:t>Twenty-One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scandal: The contest was rig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Talk sh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Inexpensive to pro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Nighttime game sh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b7ecff"/>
                </a:solidFill>
                <a:latin typeface="Calibri"/>
              </a:rPr>
              <a:t>Surviv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b7ecff"/>
                </a:solidFill>
                <a:latin typeface="Calibri"/>
              </a:rPr>
              <a:t>Who Wants to Be a Millionai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b7ecff"/>
                </a:solidFill>
                <a:latin typeface="Calibri"/>
              </a:rPr>
              <a:t>The Weakest Li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b7ecff"/>
                </a:solidFill>
                <a:latin typeface="Calibri"/>
              </a:rPr>
              <a:t>Jeopar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b7ecff"/>
                </a:solidFill>
                <a:latin typeface="Calibri"/>
              </a:rPr>
              <a:t>Wheel of For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FA41-9D62-4D91-B2E8-E333F2D4F88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Blockbusters: Super Bowl, World Cup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Inno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- Instant rep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- Poker as </a:t>
            </a:r>
            <a:r>
              <a:rPr b="0" lang="ja-JP" sz="1200" spc="-1" strike="noStrike">
                <a:solidFill>
                  <a:srgbClr val="b7ecff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sport</a:t>
            </a:r>
            <a:r>
              <a:rPr b="0" lang="ja-JP" sz="1200" spc="-1" strike="noStrike">
                <a:solidFill>
                  <a:srgbClr val="b7ecff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5539-5696-412D-9922-6F68ED5EC8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Reality TV: Survivor, Big Brother, American Idol—traces back to Truth or Consequences, Candid Camera, COPS, America</a:t>
            </a:r>
            <a:r>
              <a:rPr b="0" lang="ja-JP" sz="1200" spc="-1" strike="noStrike">
                <a:solidFill>
                  <a:srgbClr val="b7ecff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s Funniest Home Video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B5B6-F0DF-46AA-8B78-6EC090112A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75B3-7D86-4345-85F5-E71B4115744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9A9A-93B7-48AA-8C23-C0C3DE6311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7467-6DAA-4E4C-89DE-27352BCECF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A397-496E-4CDE-B2A4-112BAA1999F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9585-E060-47DB-8EFE-367DBDFE0D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00A4-FC47-4A43-BC3A-4628B1A133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D0E2-BBE3-4442-8B23-E60943EB8F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3C5D-5EE4-4901-965D-C8270C1AC23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AF3F-F2B3-45FB-A83A-163FBD5DA8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322C-2345-4A06-A657-157E2F5CFCF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5306-1B56-4AF3-8637-ED71D1BDAF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2FF8-5533-4F21-A623-875893E7DA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9A2C-FC1D-4168-9961-CC44528354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F0D1-02FD-433C-A989-689C420091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F219-172B-486E-B410-3A0FBC0565C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0FE5-FE73-49B5-804C-5EDC533525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102C-DAED-4F48-AD12-3630440369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56D0-4AE2-4274-98A0-7270531481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2D33-CA08-4509-80F2-055910F413C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77B4-F7D7-460F-9378-5C5A889502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it acceptable, do you feel you can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ter ou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violence from any influence it might have on your life or your view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67DC-0721-4AA5-BCDC-79F8500B4E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4C12-923A-4E9B-9B00-7B554489D46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3233-019C-4ED2-96B7-D275FF54CE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8BC2-4569-4ACC-95CA-D5110F5DAC3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alibri"/>
              </a:rPr>
              <a:t>Combat as entertainment (gladiators, animal figh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8A12-C4F2-4A89-9952-063C2FFAE5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ively multiplayer online role-playing games (MMORPG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7008-C23D-46DB-AA6F-9D4930F3C35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66ff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Golden age of television</a:t>
            </a:r>
            <a:r>
              <a:rPr b="0" lang="ja-JP" sz="1200" spc="-1" strike="noStrike">
                <a:solidFill>
                  <a:srgbClr val="cc66ff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: 1940s through 196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cc66ff"/>
                </a:solidFill>
                <a:latin typeface="Calibri"/>
              </a:rPr>
              <a:t>Ed Sullivan S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cc66ff"/>
                </a:solidFill>
                <a:latin typeface="Calibri"/>
              </a:rPr>
              <a:t>The Honeymoo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cc66ff"/>
                </a:solidFill>
                <a:latin typeface="Calibri"/>
              </a:rPr>
              <a:t>The Twilight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cc66ff"/>
                </a:solidFill>
                <a:latin typeface="Calibri"/>
              </a:rPr>
              <a:t>I Love Lu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B186-F7AC-4800-8E74-F2E1672EA4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836B-C9CC-4BF9-9A55-07917FA6B7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626-A589-4E2B-8FBC-FC874A3E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6AC-97B9-4B05-B8EB-3461F514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167-10FC-49A4-BDF3-CCDDD6CB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007-AC61-4A87-AB52-3067A40D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9FE4-A723-41DF-918B-658A2DB8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47A3-1A13-4399-B5B7-C1B1644E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9FF2-FA5A-41B2-BEE5-302FDE21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AA00-8A1F-438B-8B57-A2FF80F9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C8CF-20BD-400A-B8C3-466A994B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FEAA-E8BD-49AA-935D-23592980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E781-D055-4753-8935-09009613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2EB-B0B0-4E8D-950A-0D0FC3F8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6B77-4A2E-420C-AE72-BE065217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ED2B-776A-4821-892E-546D700F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8B66-BB32-4E1A-ABE8-B1D08305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DD1C-6AC2-4AEA-8E67-294B8C49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A56C-E967-44ED-B9C1-2EF86784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0F3-4F9E-4A70-93EF-DC0349C5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20B-D4B7-416B-9E76-3786D12D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A54-0D56-46DB-9C55-9A116BA6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F8B-6F62-47D6-B68D-3E6C7147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94F-FBE9-48EA-8854-4A365858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5D1E-6CDE-4AA6-81BB-CB4F575E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B99-BE82-4CDD-9001-F4FE9768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93A3-069E-4A30-8DFE-AB1ECBF89B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3E4D-2F77-4D17-8287-115EC8B206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590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cff"/>
                </a:solidFill>
                <a:latin typeface="Tahoma"/>
              </a:rPr>
              <a:t>Entertai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066680" y="6172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pyright © 2011, Oxford University Press, In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90720" y="9144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onverging Media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 New Introduction to Mass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Rise of C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1295280" y="1752480"/>
            <a:ext cx="731520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Gritty, tough police drama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MTV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Music videos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Real World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Jackass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The Osbournes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ble Comes of 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1295280" y="1752480"/>
            <a:ext cx="731520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HBO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2002: </a:t>
            </a: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The Sopranos 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becomes the most watched show in HBO history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Six Feet Under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Sex and the City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1"/>
          <p:cNvSpPr/>
          <p:nvPr/>
        </p:nvSpPr>
        <p:spPr>
          <a:xfrm>
            <a:off x="1219320" y="60948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blic Service Broadcas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1295280" y="1752480"/>
            <a:ext cx="73152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Public Broadcasting Service (PBS) launched </a:t>
            </a:r>
            <a:r>
              <a:rPr b="0" i="1" lang="en-US" sz="3800" spc="-1" strike="noStrike">
                <a:solidFill>
                  <a:srgbClr val="ff6fcf"/>
                </a:solidFill>
                <a:latin typeface="Tahoma"/>
              </a:rPr>
              <a:t>Sesame Street</a:t>
            </a: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 in 1969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Award-winning programs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Based on BBC model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Threatened by governmental oversight and cutbacks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Programm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1295280" y="1752480"/>
            <a:ext cx="731520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5700" spc="-1" strike="noStrike">
                <a:solidFill>
                  <a:srgbClr val="b7ecff"/>
                </a:solidFill>
                <a:latin typeface="Tahoma"/>
              </a:rPr>
              <a:t>Soap operas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5700" spc="-1" strike="noStrike">
                <a:solidFill>
                  <a:srgbClr val="b7ecff"/>
                </a:solidFill>
                <a:latin typeface="Tahoma"/>
              </a:rPr>
              <a:t>Quiz/game shows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5700" spc="-1" strike="noStrike">
                <a:solidFill>
                  <a:srgbClr val="b7ecff"/>
                </a:solidFill>
                <a:latin typeface="Tahoma"/>
              </a:rPr>
              <a:t>Talk shows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5700" spc="-1" strike="noStrike">
                <a:solidFill>
                  <a:srgbClr val="b7ecff"/>
                </a:solidFill>
                <a:latin typeface="Tahoma"/>
              </a:rPr>
              <a:t>Nighttime game shows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Programm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1295280" y="1752480"/>
            <a:ext cx="7315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Sport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Blockbuster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Innovation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Programm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1295280" y="1752480"/>
            <a:ext cx="73152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Reality TV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User-generated content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lang="ja-JP" sz="6000" spc="-1" strike="noStrike">
                <a:solidFill>
                  <a:srgbClr val="b7ecff"/>
                </a:solidFill>
                <a:latin typeface="Tahoma"/>
              </a:rPr>
              <a:t>“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Reality</a:t>
            </a:r>
            <a:r>
              <a:rPr b="0" lang="ja-JP" sz="6000" spc="-1" strike="noStrike">
                <a:solidFill>
                  <a:srgbClr val="b7ecff"/>
                </a:solidFill>
                <a:latin typeface="Tahoma"/>
              </a:rPr>
              <a:t>”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1"/>
          <p:cNvSpPr/>
          <p:nvPr/>
        </p:nvSpPr>
        <p:spPr>
          <a:xfrm>
            <a:off x="1219320" y="609480"/>
            <a:ext cx="7238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Tahoma"/>
              </a:rPr>
              <a:t>Movie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1295280" y="1752480"/>
            <a:ext cx="7315200" cy="47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900" spc="-1" strike="noStrike">
                <a:solidFill>
                  <a:srgbClr val="ff6fcf"/>
                </a:solidFill>
                <a:latin typeface="Tahoma"/>
              </a:rPr>
              <a:t>Still strong despite television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900" spc="-1" strike="noStrike">
                <a:solidFill>
                  <a:srgbClr val="ff6fcf"/>
                </a:solidFill>
                <a:latin typeface="Tahoma"/>
              </a:rPr>
              <a:t>Provide social experience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900" spc="-1" strike="noStrike">
                <a:solidFill>
                  <a:srgbClr val="ff6fcf"/>
                </a:solidFill>
                <a:latin typeface="Tahoma"/>
              </a:rPr>
              <a:t>Movies on television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900" spc="-1" strike="noStrike">
                <a:solidFill>
                  <a:srgbClr val="ff6fcf"/>
                </a:solidFill>
                <a:latin typeface="Tahoma"/>
              </a:rPr>
              <a:t>Created from original scripts, books, television programs, games, etc.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v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295280" y="1752480"/>
            <a:ext cx="73152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Movie moguls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Warner brothers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Walt Disney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Samuel Goldwyn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Marcus Loew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Louis B. Mayer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v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1295280" y="1752480"/>
            <a:ext cx="731520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Film genre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Action/adventure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Comedy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Romance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Science fictio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Suspense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Other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v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295280" y="1752480"/>
            <a:ext cx="73152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Technological influences on film genre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Special effect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Animation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DVDs, videotape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Netflix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8"/>
          <p:cNvSpPr/>
          <p:nvPr/>
        </p:nvSpPr>
        <p:spPr>
          <a:xfrm>
            <a:off x="1219320" y="609480"/>
            <a:ext cx="72388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7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990720" y="2133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66ffcc"/>
                </a:solidFill>
                <a:latin typeface="Tahoma"/>
              </a:rPr>
              <a:t>Guitar Hero </a:t>
            </a:r>
            <a:r>
              <a:rPr b="0" lang="en-US" sz="7200" spc="-1" strike="noStrike">
                <a:solidFill>
                  <a:srgbClr val="66ffcc"/>
                </a:solidFill>
                <a:latin typeface="Tahoma"/>
              </a:rPr>
              <a:t>was a huge hit … until it wasn</a:t>
            </a:r>
            <a:r>
              <a:rPr b="0" lang="ja-JP" sz="7200" spc="-1" strike="noStrike">
                <a:solidFill>
                  <a:srgbClr val="66ffcc"/>
                </a:solidFill>
                <a:latin typeface="Tahoma"/>
              </a:rPr>
              <a:t>’</a:t>
            </a:r>
            <a:r>
              <a:rPr b="0" lang="en-US" sz="7200" spc="-1" strike="noStrike">
                <a:solidFill>
                  <a:srgbClr val="66ffcc"/>
                </a:solidFill>
                <a:latin typeface="Tahoma"/>
              </a:rPr>
              <a:t>t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ideo Ga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1295280" y="1752480"/>
            <a:ext cx="73152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PlayStation, Wii, Xbox, etc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MMOG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Mod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Game-based discussion group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Serious gaming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ideo Ga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1295280" y="1752480"/>
            <a:ext cx="73152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Social gaming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Video games, computer games, Facebook game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Players interact with each other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Attractive for advertiser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s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Box 12"/>
          <p:cNvSpPr/>
          <p:nvPr/>
        </p:nvSpPr>
        <p:spPr>
          <a:xfrm>
            <a:off x="1295280" y="1752480"/>
            <a:ext cx="73152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Guitar Hero toda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Tin Pan Alle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— 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Irving Berli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Rock and Rol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•  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MTV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oks and Magazi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1295280" y="1752480"/>
            <a:ext cx="73152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80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00ff80"/>
                </a:solidFill>
                <a:latin typeface="Tahoma"/>
              </a:rPr>
              <a:t>Still strong among young peop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80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00ff80"/>
                </a:solidFill>
                <a:latin typeface="Tahoma"/>
              </a:rPr>
              <a:t>Entertainment and social behavioral guid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80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00ff80"/>
                </a:solidFill>
                <a:latin typeface="Tahoma"/>
              </a:rPr>
              <a:t>Paper, cell phones, etc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1"/>
          <p:cNvSpPr/>
          <p:nvPr/>
        </p:nvSpPr>
        <p:spPr>
          <a:xfrm>
            <a:off x="1219320" y="609480"/>
            <a:ext cx="72388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Entertainment Ethics and Law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1295280" y="1752480"/>
            <a:ext cx="73152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Stereotyp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Sex and violenc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Censorship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The Hays Cod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Movie rating syste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1"/>
          <p:cNvSpPr/>
          <p:nvPr/>
        </p:nvSpPr>
        <p:spPr>
          <a:xfrm>
            <a:off x="1219320" y="609480"/>
            <a:ext cx="7238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Business of Entertainment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1295280" y="1752480"/>
            <a:ext cx="73152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900" spc="-1" strike="noStrike">
                <a:solidFill>
                  <a:srgbClr val="ff6fcf"/>
                </a:solidFill>
                <a:latin typeface="Tahoma"/>
              </a:rPr>
              <a:t>Television ratings</a:t>
            </a:r>
            <a:endParaRPr b="0" lang="en-US" sz="59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900" spc="-1" strike="noStrike">
                <a:solidFill>
                  <a:srgbClr val="ff6fcf"/>
                </a:solidFill>
                <a:latin typeface="Tahoma"/>
              </a:rPr>
              <a:t>Numerous jobs and roles</a:t>
            </a:r>
            <a:endParaRPr b="0" lang="en-US" sz="59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900" spc="-1" strike="noStrike">
                <a:solidFill>
                  <a:srgbClr val="ff6fcf"/>
                </a:solidFill>
                <a:latin typeface="Tahoma"/>
              </a:rPr>
              <a:t>High costs </a:t>
            </a:r>
            <a:endParaRPr b="0" lang="en-US" sz="5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1"/>
          <p:cNvSpPr/>
          <p:nvPr/>
        </p:nvSpPr>
        <p:spPr>
          <a:xfrm>
            <a:off x="1219320" y="609480"/>
            <a:ext cx="7238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Careers in Entertainment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1295280" y="1752480"/>
            <a:ext cx="73152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700" spc="-1" strike="noStrike">
                <a:solidFill>
                  <a:srgbClr val="cc66ff"/>
                </a:solidFill>
                <a:latin typeface="Tahoma"/>
              </a:rPr>
              <a:t>Accounting, business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700" spc="-1" strike="noStrike">
                <a:solidFill>
                  <a:srgbClr val="cc66ff"/>
                </a:solidFill>
                <a:latin typeface="Tahoma"/>
              </a:rPr>
              <a:t>Public relations, marketing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700" spc="-1" strike="noStrike">
                <a:solidFill>
                  <a:srgbClr val="cc66ff"/>
                </a:solidFill>
                <a:latin typeface="Tahoma"/>
              </a:rPr>
              <a:t>Computer programming, design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700" spc="-1" strike="noStrike">
                <a:solidFill>
                  <a:srgbClr val="cc66ff"/>
                </a:solidFill>
                <a:latin typeface="Tahoma"/>
              </a:rPr>
              <a:t>Wide range of salaries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25905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cussion Questions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066680" y="6172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pyright © 2011, Oxford University Press, In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990720" y="9144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onverging Media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 New Introduction to Mass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1"/>
          <p:cNvSpPr/>
          <p:nvPr/>
        </p:nvSpPr>
        <p:spPr>
          <a:xfrm>
            <a:off x="1219320" y="609480"/>
            <a:ext cx="723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66"/>
                </a:solidFill>
                <a:latin typeface="Tahoma"/>
              </a:rPr>
              <a:t>Discussion Questions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1295280" y="1752480"/>
            <a:ext cx="731520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ff80"/>
                </a:solidFill>
                <a:latin typeface="Tahoma"/>
              </a:rPr>
              <a:t>If you have ever met a celebrity, how did you feel? How did your perception of that person change?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1"/>
          <p:cNvSpPr/>
          <p:nvPr/>
        </p:nvSpPr>
        <p:spPr>
          <a:xfrm>
            <a:off x="1219320" y="609480"/>
            <a:ext cx="723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66"/>
                </a:solidFill>
                <a:latin typeface="Tahoma"/>
              </a:rPr>
              <a:t>Discussion Questions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1295280" y="1752480"/>
            <a:ext cx="731520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ff80"/>
                </a:solidFill>
                <a:latin typeface="Tahoma"/>
              </a:rPr>
              <a:t>Think about your favorite TV shows. Are they remakes of older shows? What influenced them?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8"/>
          <p:cNvSpPr/>
          <p:nvPr/>
        </p:nvSpPr>
        <p:spPr>
          <a:xfrm>
            <a:off x="1219320" y="609480"/>
            <a:ext cx="72388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7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990720" y="2133720"/>
            <a:ext cx="79246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6ffcc"/>
                </a:solidFill>
                <a:latin typeface="Tahoma"/>
              </a:rPr>
              <a:t>Then it was </a:t>
            </a:r>
            <a:r>
              <a:rPr b="0" i="1" lang="en-US" sz="6800" spc="-1" strike="noStrike">
                <a:solidFill>
                  <a:srgbClr val="66ffcc"/>
                </a:solidFill>
                <a:latin typeface="Tahoma"/>
              </a:rPr>
              <a:t>Call of Duty </a:t>
            </a:r>
            <a:r>
              <a:rPr b="0" lang="en-US" sz="6800" spc="-1" strike="noStrike">
                <a:solidFill>
                  <a:srgbClr val="66ffcc"/>
                </a:solidFill>
                <a:latin typeface="Tahoma"/>
              </a:rPr>
              <a:t>… then </a:t>
            </a:r>
            <a:r>
              <a:rPr b="0" i="1" lang="en-US" sz="6800" spc="-1" strike="noStrike">
                <a:solidFill>
                  <a:srgbClr val="66ffcc"/>
                </a:solidFill>
                <a:latin typeface="Tahoma"/>
              </a:rPr>
              <a:t>Angry Birds </a:t>
            </a:r>
            <a:r>
              <a:rPr b="0" lang="en-US" sz="6800" spc="-1" strike="noStrike">
                <a:solidFill>
                  <a:srgbClr val="66ffcc"/>
                </a:solidFill>
                <a:latin typeface="Tahoma"/>
              </a:rPr>
              <a:t>… then … what?</a:t>
            </a:r>
            <a:endParaRPr b="0" lang="en-US" sz="6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1"/>
          <p:cNvSpPr/>
          <p:nvPr/>
        </p:nvSpPr>
        <p:spPr>
          <a:xfrm>
            <a:off x="1219320" y="609480"/>
            <a:ext cx="723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66"/>
                </a:solidFill>
                <a:latin typeface="Tahoma"/>
              </a:rPr>
              <a:t>Discussion Questions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1295280" y="1752480"/>
            <a:ext cx="731520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ff80"/>
                </a:solidFill>
                <a:latin typeface="Tahoma"/>
              </a:rPr>
              <a:t>Are you willing to play a video game numerous times? Why? Would you read a book that many times?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1"/>
          <p:cNvSpPr/>
          <p:nvPr/>
        </p:nvSpPr>
        <p:spPr>
          <a:xfrm>
            <a:off x="1219320" y="609480"/>
            <a:ext cx="723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66"/>
                </a:solidFill>
                <a:latin typeface="Tahoma"/>
              </a:rPr>
              <a:t>Discussion Questions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1295280" y="1752480"/>
            <a:ext cx="73152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ff80"/>
                </a:solidFill>
                <a:latin typeface="Tahoma"/>
              </a:rPr>
              <a:t>Is this the </a:t>
            </a:r>
            <a:r>
              <a:rPr b="0" lang="ja-JP" sz="6200" spc="-1" strike="noStrike">
                <a:solidFill>
                  <a:srgbClr val="00ff80"/>
                </a:solidFill>
                <a:latin typeface="Tahoma"/>
              </a:rPr>
              <a:t>“</a:t>
            </a:r>
            <a:r>
              <a:rPr b="0" lang="en-US" sz="6200" spc="-1" strike="noStrike">
                <a:solidFill>
                  <a:srgbClr val="00ff80"/>
                </a:solidFill>
                <a:latin typeface="Tahoma"/>
              </a:rPr>
              <a:t>Golden Age</a:t>
            </a:r>
            <a:r>
              <a:rPr b="0" lang="ja-JP" sz="6200" spc="-1" strike="noStrike">
                <a:solidFill>
                  <a:srgbClr val="00ff80"/>
                </a:solidFill>
                <a:latin typeface="Tahoma"/>
              </a:rPr>
              <a:t>”</a:t>
            </a:r>
            <a:r>
              <a:rPr b="0" lang="en-US" sz="6200" spc="-1" strike="noStrike">
                <a:solidFill>
                  <a:srgbClr val="00ff80"/>
                </a:solidFill>
                <a:latin typeface="Tahoma"/>
              </a:rPr>
              <a:t> of Internet entertainment? Why or why not?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1"/>
          <p:cNvSpPr/>
          <p:nvPr/>
        </p:nvSpPr>
        <p:spPr>
          <a:xfrm>
            <a:off x="1219320" y="609480"/>
            <a:ext cx="723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66"/>
                </a:solidFill>
                <a:latin typeface="Tahoma"/>
              </a:rPr>
              <a:t>Discussion Questions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1295280" y="1752480"/>
            <a:ext cx="73152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80"/>
                </a:solidFill>
                <a:latin typeface="Tahoma"/>
              </a:rPr>
              <a:t>As the Internet shifts increasingly toward commercialization, what will be the impact on Internet entertainment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1"/>
          <p:cNvSpPr/>
          <p:nvPr/>
        </p:nvSpPr>
        <p:spPr>
          <a:xfrm>
            <a:off x="1219320" y="609480"/>
            <a:ext cx="723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66"/>
                </a:solidFill>
                <a:latin typeface="Tahoma"/>
              </a:rPr>
              <a:t>Discussion Questions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1295280" y="1752480"/>
            <a:ext cx="73152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80"/>
                </a:solidFill>
                <a:latin typeface="Tahoma"/>
              </a:rPr>
              <a:t>Do you play any online games with other people? How does that experience differ from playing games in real life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1"/>
          <p:cNvSpPr/>
          <p:nvPr/>
        </p:nvSpPr>
        <p:spPr>
          <a:xfrm>
            <a:off x="1219320" y="609480"/>
            <a:ext cx="723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66"/>
                </a:solidFill>
                <a:latin typeface="Tahoma"/>
              </a:rPr>
              <a:t>Discussion Questions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1295280" y="1752480"/>
            <a:ext cx="73152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80"/>
                </a:solidFill>
                <a:latin typeface="Tahoma"/>
              </a:rPr>
              <a:t>Many movies, video games, and other forms of entertainment focus on violence. Is that acceptable — or is it harmful to our society?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2590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cff"/>
                </a:solidFill>
                <a:latin typeface="Tahoma"/>
              </a:rPr>
              <a:t>Entertai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066680" y="6172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pyright © 2011, Oxford University Press, In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990720" y="9144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onverging Media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 New Introduction to Mass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Entertainmen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1295280" y="1752480"/>
            <a:ext cx="73152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b7ecff"/>
                </a:solidFill>
                <a:latin typeface="Tahoma"/>
              </a:rPr>
              <a:t>Convergence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b7ecff"/>
                </a:solidFill>
                <a:latin typeface="Tahoma"/>
              </a:rPr>
              <a:t>Social video game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b7ecff"/>
                </a:solidFill>
                <a:latin typeface="Tahoma"/>
              </a:rPr>
              <a:t>Pressure to make news and other information more entertaining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b7ecff"/>
                </a:solidFill>
                <a:latin typeface="Tahoma"/>
              </a:rPr>
              <a:t>Peer-to-peer (P2P)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1"/>
          <p:cNvSpPr/>
          <p:nvPr/>
        </p:nvSpPr>
        <p:spPr>
          <a:xfrm>
            <a:off x="1219320" y="60948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nctions of Entertain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295280" y="1752480"/>
            <a:ext cx="731520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5300" spc="-1" strike="noStrike">
                <a:solidFill>
                  <a:srgbClr val="cc66ff"/>
                </a:solidFill>
                <a:latin typeface="Tahoma"/>
              </a:rPr>
              <a:t>Entertainment (obviously)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5300" spc="-1" strike="noStrike">
                <a:solidFill>
                  <a:srgbClr val="cc66ff"/>
                </a:solidFill>
                <a:latin typeface="Tahoma"/>
              </a:rPr>
              <a:t>Cultural transmission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5300" spc="-1" strike="noStrike">
                <a:solidFill>
                  <a:srgbClr val="cc66ff"/>
                </a:solidFill>
                <a:latin typeface="Tahoma"/>
              </a:rPr>
              <a:t>Mobilization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story of Entertain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1295280" y="1752480"/>
            <a:ext cx="731520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Developed after basic needs addressed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Banquets with live entertainmen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Play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Sport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Race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Combat as entertainmen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story of Entertain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1295280" y="1752480"/>
            <a:ext cx="7315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Books (fiction, nonfic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Recorded mu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il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Rad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elev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Video g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—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MMORP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levi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1295280" y="1752480"/>
            <a:ext cx="731520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ff80"/>
                </a:solidFill>
                <a:latin typeface="Tahoma"/>
              </a:rPr>
              <a:t>• </a:t>
            </a:r>
            <a:r>
              <a:rPr b="0" lang="en-US" sz="4700" spc="-1" strike="noStrike">
                <a:solidFill>
                  <a:srgbClr val="00ff80"/>
                </a:solidFill>
                <a:latin typeface="Tahoma"/>
              </a:rPr>
              <a:t>Borrowed genres from radio and theater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ff80"/>
                </a:solidFill>
                <a:latin typeface="Tahoma"/>
              </a:rPr>
              <a:t>• </a:t>
            </a:r>
            <a:r>
              <a:rPr b="0" lang="ja-JP" sz="4700" spc="-1" strike="noStrike">
                <a:solidFill>
                  <a:srgbClr val="00ff80"/>
                </a:solidFill>
                <a:latin typeface="Tahoma"/>
              </a:rPr>
              <a:t>“</a:t>
            </a:r>
            <a:r>
              <a:rPr b="0" lang="en-US" sz="4700" spc="-1" strike="noStrike">
                <a:solidFill>
                  <a:srgbClr val="00ff80"/>
                </a:solidFill>
                <a:latin typeface="Tahoma"/>
              </a:rPr>
              <a:t>Golden age of television</a:t>
            </a:r>
            <a:r>
              <a:rPr b="0" lang="ja-JP" sz="4700" spc="-1" strike="noStrike">
                <a:solidFill>
                  <a:srgbClr val="00ff80"/>
                </a:solidFill>
                <a:latin typeface="Tahoma"/>
              </a:rPr>
              <a:t>”</a:t>
            </a:r>
            <a:r>
              <a:rPr b="0" lang="en-US" sz="4700" spc="-1" strike="noStrike">
                <a:solidFill>
                  <a:srgbClr val="00ff80"/>
                </a:solidFill>
                <a:latin typeface="Tahoma"/>
              </a:rPr>
              <a:t>: 1940s through 1960s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levi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1282680" y="1782720"/>
            <a:ext cx="7315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ff80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00ff80"/>
                </a:solidFill>
                <a:latin typeface="Tahoma"/>
              </a:rPr>
              <a:t>The </a:t>
            </a:r>
            <a:r>
              <a:rPr b="0" i="1" lang="en-US" sz="4500" spc="-1" strike="noStrike">
                <a:solidFill>
                  <a:srgbClr val="00ff80"/>
                </a:solidFill>
                <a:latin typeface="Tahoma"/>
              </a:rPr>
              <a:t>Monday Night Football</a:t>
            </a:r>
            <a:r>
              <a:rPr b="0" lang="en-US" sz="4500" spc="-1" strike="noStrike">
                <a:solidFill>
                  <a:srgbClr val="00ff80"/>
                </a:solidFill>
                <a:latin typeface="Tahoma"/>
              </a:rPr>
              <a:t> gamble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ff80"/>
                </a:solidFill>
                <a:latin typeface="Tahoma"/>
              </a:rPr>
              <a:t>• </a:t>
            </a:r>
            <a:r>
              <a:rPr b="0" i="1" lang="en-US" sz="4500" spc="-1" strike="noStrike">
                <a:solidFill>
                  <a:srgbClr val="00ff80"/>
                </a:solidFill>
                <a:latin typeface="Tahoma"/>
              </a:rPr>
              <a:t>Roots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ff80"/>
                </a:solidFill>
                <a:latin typeface="Tahoma"/>
              </a:rPr>
              <a:t>• </a:t>
            </a:r>
            <a:r>
              <a:rPr b="0" i="1" lang="en-US" sz="4500" spc="-1" strike="noStrike">
                <a:solidFill>
                  <a:srgbClr val="00ff80"/>
                </a:solidFill>
                <a:latin typeface="Tahoma"/>
              </a:rPr>
              <a:t>All in the Family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ff80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00ff80"/>
                </a:solidFill>
                <a:latin typeface="Tahoma"/>
              </a:rPr>
              <a:t>— </a:t>
            </a:r>
            <a:r>
              <a:rPr b="0" lang="en-US" sz="4500" spc="-1" strike="noStrike">
                <a:solidFill>
                  <a:srgbClr val="00ff80"/>
                </a:solidFill>
                <a:latin typeface="Tahoma"/>
              </a:rPr>
              <a:t>Challenged social assumptions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20:28:21Z</dcterms:created>
  <dc:creator>Shawn McIntosh</dc:creator>
  <dc:description/>
  <dc:language>en-US</dc:language>
  <cp:lastModifiedBy>Jason Genovese</cp:lastModifiedBy>
  <dcterms:modified xsi:type="dcterms:W3CDTF">2012-10-21T20:51:03Z</dcterms:modified>
  <cp:revision>108</cp:revision>
  <dc:subject/>
  <dc:title>Chapter 1</dc:title>
</cp:coreProperties>
</file>